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B75E-EFDB-4E65-9268-5BEC9708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CD60-59E0-45B9-B9A2-628FCCFFC0D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588-0ACB-469E-BAB9-9808FFFCAA0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BB2-99D6-4E75-928E-73EF1B10C2A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955-46DC-4BF9-93DD-3A4E1C98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D46-638E-4057-ACEC-D4DC1C2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C76-8ECB-4EF9-BC04-B04A479D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6BD-EFAD-48B5-8560-5D2ED875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0C5E-6930-43E8-A8AE-8AB68639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3DC0-11B0-4A00-A9D8-13F3233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A0A-CEB6-4FA1-8F9E-B0FFDF6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565B-C08C-4DC3-A6AB-64D3E08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12C4-253D-4435-8273-40C199A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584B-33D5-4749-A75D-31DA2A3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3222-0C50-4E1A-873D-002874B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5C2-1048-41F7-83D2-143296A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DA1-BF3E-4861-9024-EDC6CEF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5E7F-DBD2-4452-A2B3-71D8D78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1FAB-763B-4385-BAA0-49FCCD0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DFF0-C4D8-4975-B895-C51E3C8A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5A3-2C5D-432F-BA26-540E89FE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F44E7-C629-4603-AEDA-D825497ECE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FEB10-353C-4EF8-A599-8C0990355D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2D9F2-239E-439F-B255-84C3C9D7A3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AFE1D-1627-456C-905E-DAA826CDF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E9416-2799-404C-B857-05B6164D9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AC4-207A-4F60-8A35-76E78CFE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FEFF4-0D67-4B1F-9602-AD0EB6A86D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81899-EF74-4ACA-8644-9D47AF5B0B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28083-2A15-4945-B4C2-5C291EE1FF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D2935-0087-4AFB-8F76-27F97B0EA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33CED-AE13-4133-832F-FAC6A55B45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3C94B-63A0-40A5-834A-944C76F540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CD659-22B3-45AB-8C50-D0B971F551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910-657B-48BA-BB42-479196F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20A-A4E0-4972-9E12-39F05D2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85D-0701-4793-BC64-778AB2B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570-2601-40FF-9837-78B4B6B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C4F-0E2C-43FF-96C5-BD8282F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5C6-DEF4-414D-BCAA-190DDAA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8F04-20CD-40D0-9801-3DE26B7D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0D8-89BD-4D22-A679-81DD88517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44A-16FA-40EC-94CC-20D02C90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885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ПЕРИФЕРНИХ НЕРАВА ДОЊ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15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416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18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Узроци оштеће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17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ренска оштећења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и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4 (Д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Трау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мпресија тумором или апцесом у препонској ја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транеурални тум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Фрактура карл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и медицинским процедурама (катетеризација феморалне артер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истемска обољења (ДМ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poliarteritis nodosa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2680-B629-4F5D-9672-550B79FE27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Бол у препони, предња стр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адколенице, дуж унутрашње стра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ремећај сензибилитета у пределу предње стране натколенице, колена или унутрашње стране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лабост у коленима и ног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тешкоће при устајању и седању на столицу, ход уз степ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хиперекстензија колена у стојећем положају због стабил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1D4D-28C3-43BD-BE67-9510CA26EC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сл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МИОНЕУРОГРАФИЈА (ЕМН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(Ц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уклеарна магнетна резонанца (НМ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ографија (РТ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F7F1-AA42-446A-A4B4-73E44AAB99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44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Лазаревићев знак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Лазаревић укрштени 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Hoover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Kerning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Milgram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mayerov test, Walsava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тес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Naffziger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Bragart znak, Bevoor zna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22A-4094-408D-BBBB-E46B799B1B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asegueov znak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Лазаревићев знак ) – испитује се дизањем ноге екстендиране у колену у лежећем положају. Позитиван Ласегуеов знак, појава бола код одизања испружене ноге (најчешће између 30–70° флексије кука) , је чешћи код иритације корена живаца L5-S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A88-2246-43B5-8B1C-E5C475D16F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 истезања феморалног живца најчешће се изводи у лежећем потрбушном положају. Пацијен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о флектира колено све до пуног опсега покрета, тј. док се петом, по могућности, не дотакне стражњица. Ако се појави бол у подручју дистрибуције феморалног живца тест 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DE3-7318-41B0-B2E8-072282C021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CF2-76D2-4AA2-8C01-2EF4CE7718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femo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МТ за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quadr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sar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pectin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m.iliopsoas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ЕНЗИБИЛИТЕТ: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ожу предње стране бута, унутрашње стране потколенице и унутрашње ивице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МОП: зглоб кука (флекс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ја, аддукција,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спољ.рота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Мере обима и дужине 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69B-A261-417D-A2DC-BA598F40E4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 femo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тежишна линија је померена иза кукова (хиперекстензија кукова) и испред коленог зглоба (могући настанак рекурватума коле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ежана је флексија у куку 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а је активна екстензиј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по неравном терену, уз степенице или устајање са столице је отеж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5E8-E58F-4868-8470-0AF99517ED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(кортикостероиди, вит Б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4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унутар 3 месеца од повреде, може и након годину дана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циљев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твор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тималних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услов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генер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држав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ишића до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ер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генериш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остизање максималн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гуће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оравк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35D-B00C-4CF6-8944-AB9C89931C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) Лезије нерава доњих екстремитета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)  Компресивне неуропатије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)  Акутна инфламаторна демијелинизирајућа полинеуропатија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)  Дијабетесна сензомоторна полинеуропат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ска паковања на лумбални део и натколеницу (30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лоидна паковања 20-30 ми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:предња страна на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or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нарочито вастус медиалис због стабилизације колена); Е1 и Е2 до постизања оцене 3 према ММТ-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 на акупунктурне тачке дуж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1AB5-3E83-44B1-9FD3-B7B7A53CEA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LEXUS SAC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коренови и нерви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4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5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1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формирају сакрални плексус или крсни сплет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линички значајан перфер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ерв ДЕ који проистиче из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акралног плексуса 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1a1d3c"/>
                </a:solidFill>
                <a:uFillTx/>
                <a:latin typeface="Tahoma"/>
              </a:rPr>
              <a:t>n.ischiadicu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ајдужи и најснажниј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ерв човека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DAD0-6290-41EB-827C-CA7E93E115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LEXUS SAC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n.ischiadicu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а завршна грана сакралног плекс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чне гра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gluteus sup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gluteus inf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cutaneus femoris pos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344A-3033-44C4-9B42-4373167ACE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ischiadic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и нерв човечјег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једној овојници садржи два нерва: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peroneus commun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tibia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mebra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tendi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ceps femor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бол при флексиј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дукцији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љашњој ротациј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CAB-7BBD-4DB2-890A-5EBE5477C8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ischiadic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карлица иде у наглашену екстензију, могућа је појава рекурватум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дискоординација хода, немогућност активне флексије колена клатеће ноге и дозиране екстензије колена. Нарочито изражене сметње уз и низ стрми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1A99-8C8C-4FFA-A5D6-C7467B8517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из коренов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затколене јаме се налази у саставу ишијадичног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вршне гра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n.cutaneus surae lateralis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n. peroneus profund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отор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n. peroneus  superficia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отор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D9E7-617B-40A3-808D-5FCC883023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Segoe UI Semibold"/>
              </a:rPr>
              <a:t>Инервиш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peroneus profundus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ibialis an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digitorum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digitorum brev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hallucis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peroneus superficiali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brev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F1B-497D-460E-A9E8-BE553DD18D5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терална стране потколенице, простор измеђ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МТ кости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фаланге другог прста, латералне стране спољне ивице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обима потколен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FA9-C60E-4499-8C61-3B57716440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пало је у плантарној флексији и аддук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зв “висеће стопало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ност активне дорзалне флексије, абдукције и пронације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се зове “перонеални” или “петлов ход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747-F9AC-4F65-B5CD-CB18119E48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Узроци лез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аума (прелом проксималног дела фибуле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тисак на нерв око фибул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ресија на нерв услед дуготрајног клечањ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умор кауде еквине или Д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паљења нерва (неуритиси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ликација оперативног лечења (ПТЦ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A3F2-0675-4C01-B324-19EAFA964F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ЕРИФЕРНИ НЕРВ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нерви 31 па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ичмени нерви настају спајањем вентралних (предњих) и дорзалних (задњих) коренова кичмене мождине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е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anterior s.motori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е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За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posterior s.sensoria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а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ganlion spin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7E0-A764-4FA9-9AAA-752A6AA8E3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-лонгитудинална, биполарна тех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Новокаина лонгитудин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 биостимулативни ласер на акупунктурне тачке 1 до 3 Ј/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 тач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– пулзирајуће електромагнетно поље на ЛС сегмент или дуж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парафинска паковања ЛС сегмент 30 мин; И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-20 мин;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Д колено или потколеница; пелоидна паковања 20-30 ми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C2AF-A6C9-4B77-8147-25D20C33C9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експоненцијалним струјама лонгитудиналном биполарном или монополарном техник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рјентацио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аја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мпулс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узе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висности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тепе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ериферне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ајтеж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( 500-1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ешто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лакш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( 250-5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1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Лак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---( 50-125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50-5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ишић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------( 0,1- 3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625040" indent="-180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2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500/2000,  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0-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25040" indent="-180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1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250/500,   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2+ -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C96-1801-4F54-A467-15BDF43F3C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НЕЗИТЕРАПИЈА- задац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44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чување физиолошког обима покрета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бнова пуног обима покрета (ако постоји контрактур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чување моторне шем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стимулација функције паретичних и паралитич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јачање ослабље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јачање осталих мишића (који нису паретичн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очување и побољшање циркулације и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спречавање настанк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спречавање декалцификције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обнова осет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1. реедукације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95A-4417-4830-8997-ACADCB52E3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тоде кинези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ављање индивидуалног ктх програ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2B8-7AF7-4A69-B6F8-EAEBC18676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7720" y="16761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д коренова L4, L5, S1, S2 и S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 затколене јаме налази се у састав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ischiadic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-а са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-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ензитивне гране инервишу: кожу задње стране потколенице и кожу таб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8A5-2049-4519-8E5F-DC454A8E04D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2120" y="16002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оторна влакна инервиш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triceps  sura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lantari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oplit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ibialis pos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flexor digitorum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flexor hallucis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02B8-A6B3-46C0-AD6B-4786D1124D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фичке пром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стопало се налази у положају дорзалне флексије, абдукације и про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нџасто стопало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је могућ ход на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а ситнитним корацима, степ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лабљена адукција и супинација стопала, спуштен уздужни свод стопала (пес валгу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ност аддукције, абдукције и флексије прстију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A3E1-CD47-42CF-BC6C-5EE2096200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-лонгитудинална, биполарна тех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Новокаина лонгитудин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 биостимулативни ласер на акупунктурне тачке 1 до 3 Ј/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 тачки, 1-3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– пулзирајуће електромагнетно поље на ЛС сегмент или дуж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ска паковања ЛС сегмент 30 мин; И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-20 мин;КТД колено или потколеница; пелоидна паковања 20-30 ми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C9F-C9E3-4053-9D2D-CC01E45594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експоненцијалним струјама лонгитудиналном биполарном или монополарном техник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C4DA-1963-4F62-B9A9-5AF4C19F93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Компресивне неуропатије доњих 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ПИНАЛНИ НЕРВ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кичмене мождине полази 31 пар нера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врат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 груд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слабинск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крс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трти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нални нерв пролази кроз међупршљенски отвор и дели се у две гране: предњу и зад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6F9-1116-412C-8251-59727D7116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омпресивне неуропат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 кичменог стуба до мишића, коже и других органа, нерви пролазе кроз разне уске кана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кад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ови кана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различити узрока суз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што доводи до притиска и оштећења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ци су различити и зависе од локализа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 се манифестује болом у пределу нерва који се специфично шири, утрнулост и мравињање одређене регије и слабост одређених миши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0288-0399-4242-AB38-451C63C12F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Синдром перонеалног туне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peroneus commun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пролазу кроз коштано-везивни тунел у висини врата фибуле често је изложен притиску и даје клиничку слику синдрома пероне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тиологи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ипсана имобилазација коле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отрајно седење са прекрштеним ногам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авање на тврдој подлоз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езници за колен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у пределу проксималног краја фибул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нглиом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новијалне цисте поплитеалне ја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679-EE0A-4D90-8D20-E2B46F5096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индром перонеалног туне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440" y="159984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д стопала уз слабост дорзифлексије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убитак сензибилтета у предње бочним деловима потколенице и свода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у подручју перонеалног тунела који се шири дист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F24-1978-472E-AB17-C0EE458A86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аналгетске процедур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Анодна галванизација (А на спољну страну колена, К на стоп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ДС (ЦП+Л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ФС (90-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ли 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ТЕНС- логитудинално или трансверз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улативни ласер 3 мин по тач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к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улсно магнетно по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72D-54D9-4A1C-841A-708D3A279D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09120" y="175212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ралгиа парестетика (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ralgia parestheti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) клиничком сликом доминирају парестезије, диестезије и хиперпатија коже у пределу спољне, латералне половине на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зрок је компресивна неуропат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.cutaneus femoris lateralisa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спод ингин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8D2A-46EA-4362-A6A5-F03762ED5E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8080" y="1905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 је обично притиснут у горњем делу препоне где пролази кроз отвор између препонске везе и њеног припоја на коштаној бодљи бедрене кости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 (</a:t>
            </a:r>
            <a:r>
              <a:rPr b="0" i="1" lang="vi-VN" sz="2400" spc="-1" strike="noStrike">
                <a:solidFill>
                  <a:srgbClr val="40458c"/>
                </a:solidFill>
                <a:latin typeface="Tahoma"/>
              </a:rPr>
              <a:t>spina iliaca anterior superior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710F-C97B-4B4A-9080-4E6E94F28D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ци настан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шење уске одећ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бетес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јазнос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шење тешког ала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жиљак у близини лигамента од претходне операц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1A36-68B2-4FEE-B55C-D06170D9D9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Дијагно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е поставља на бази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ог прегл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М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гијенско – дијететски режим (корекција ТТ, ношење удобне одећ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 (НСАИ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- термотерапија (криотерапија, парафинтерапија),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5CC2-BB4E-49BF-A20F-727EC88B67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62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ални део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n. tibialis-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једно са неколико тетива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rt.tibialis posterior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лази се у тарзалном тунелу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analis tarsi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непосредно иза медијалног малеолуса у коме може бити компримован и то доводи до настанка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индрома тарзалног тун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1A8-D71B-4644-A553-EED1E2E976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зроци настан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шчашења или прелом скоч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сна и неадекватна обу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трауматска фибр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Цис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урин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ндосинов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62C-4DC7-4429-B4A4-331D40784E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ње гране кичмених нерава граде нервне сплетове (изузев грудних нерава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cervic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brachi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n intercos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coccig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6D44-20AA-4C45-A612-B7ED403CF6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и парестезије у медијалном делу табана, мравињање у подручју палца, другог и трећег пр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к осећа “као да хода по иглама или стаклу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може да се шири и проксимално све до кука, који се потенцирају при ход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91D-1582-434C-83D5-0EAC6D514C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гноза се постављ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ан Тинелов знак, палпација и перкусија тарзалног канала изазивају парестезије и бол у табану и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сирана еверзија и дорзална флексија стопала изазивају бол у табану и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РТГ, ЕМГ, МРИ,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B4D7-89DE-4870-8E3F-075F557976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1760" y="13716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ртопедски улош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краћа имобилизација, ортозе за скочни згл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медикаментозна 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НСАИ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оперативн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189A-6B71-48C0-812B-5380F658A6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(GUILLAIN-BARRÉ SINDR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линеуропат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фузни поремећаји који захватају периферне нер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е полинеуропатије (на пр. Guillain-Barré синдром) захватају примарно моторна влак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руге полинеуропатије (на пр.AIDS, diabetes mellitus) примарно захватају сензитивна влак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DCC-A5E6-4597-A0AB-10BB05851F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кутне аутоимуне неуропат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рактериш</a:t>
            </a: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е их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нагли почетак и прогресија болести унутар  недељ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четку болести обично претходи бактеријска или вирусна инфек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монофазни ток, ретко рецидивира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ипичан представник 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акутни полирадикулонеурити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(Guillain-Barre-ov sindrom) 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464B-6043-4D90-B218-A5FFD5227E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uillain-Barré синдром је акутна инфламаторна демијелинизирајућа полинеуропат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и синдром који захвата периферне нерве обично након акутне инфекције и најчешће се јавља симетрич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периферних нерава доводи до смањене функције, слабости, губитка сензибилитета и на крају долази до парализе екстремитета са или без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36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6B3-D786-4611-AC38-877A627A45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/3 оболелих имају претходну инфекцију око 6 дана пре појаве симптома, углавном је реч о акутној упали горњих дисајних путева или гастроентеритис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им слабости долази и до губитка осећаја у обе ноге, касније се развија и на рук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0066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GUILLAIN-BARRÉ SINDRO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E869-1EE6-473E-9AC5-2C4BF80D12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2720" y="762120"/>
            <a:ext cx="706752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КЛИНИЧКА СЛ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23623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spcBef>
                <a:spcPts val="11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За постављање дијагнозе обавезна су два знак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прогресивна мишићна слабост више од једног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тотална хипо- или арефлекс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олест пролази кроз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и стадију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очиње појављивањем симптома и наставља се брзим напредовањем болести. Траје до 4 дана, а симптоми укључују бол,слабост са парализом мишића и могућом респираторном дисфункц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Друга фаза је фаза плато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да симптоми остају исти као и у акутној фази. Траје од неколико дана до неколико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Фаза опоравк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чиње када се стање пацијента почне поправљати и траје до опоравка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8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30B-125C-409C-86D2-055B4D6212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Слабински сплет 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i="1" lang="vi-VN" sz="20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де га од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1-4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лабинског нерв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Његове најважније гране су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emoris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нервише предње мишиће  и кожу предње стран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 obturatorius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инервише мишиће унутрашње лож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 кожу унутрашње стран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Крсни сплет 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i="1" lang="vi-VN" sz="20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де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5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лабински и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1, 2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3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сни нерви.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ајважније гране су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очне гране које инервишу седалне мишиће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 ischiadicus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инервише мишиће задње ложе бута и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на се на и лишњачки и голењачки нер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132-0944-47CB-A5CB-CF79FD0486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цереброспиналног лик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ур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ирање на Х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лица н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campylobacter jejun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poliovirus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т на ганглиозиде, анализа ЦМ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рологија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EPB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ру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2C56-40E8-47F8-9B84-CB65BE7F2F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ерапија- медикаментоз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ртикостерои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нтравенски имуноглобулини (IV I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лазмаферез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2DD0-33C8-4800-8AC6-F70C9C6715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огроман значај јер код се код ових болесника очекује потпуни оп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актног стадијума пацијент бива укључен у рехабилитациони третман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а је усмерена на функционални опоравак и побољшање квалитета живот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да се започне са рехабилитацијом на Клиникама за неурологију или ЈИН, а касније да се настави у Рехабилитационим центр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се спроводи и рехабилитација у климатско-бањским лечилиш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7C6-7D17-4762-928F-CDF63276EC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Рехабилитација обухвата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медицинску рехабилитаци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психолошку рехабилитацију и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социјалну рехабилитацију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еоходан је тимски рад више специјалности (лекара, терапеута, сестара, психолога, социјалних радника) ради повратка свакодневним активностма, учешћа у социјалном животу и побољшање општег квалитета живо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51D-7B38-4CF8-86EF-74F04D8DB1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убјективни прегле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, хетеро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ућна функција (форсирани витални капаците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улс, ТА, фреквенција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постуре, покретљивости, ментално ст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FA4-EF7D-4482-9582-ED9674D2F3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бјективни прегле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покретљивости М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лабости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бола: ВАС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кранијал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спираторни стату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ови процене- Оксфорд скала, ВАС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D37-4CC5-4775-8183-5E55DDD374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пецифични проблем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вадрипар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а дисфункција (аритмије, аре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и дефици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ашни МТР на рукама и ног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оординисани покрети (немогућност ход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тезање, бол у мишић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C76-09CE-4CF3-9B87-2222387FED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 акутној фази јачамо ослабљену респираторну функци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обилизација секрета (ако постоји потреба механичка вентилациј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зиционирање, промена положа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тх програм: пасивне, активно-потпомогнуте вежбе и активне вежб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D99F-F972-4F52-ACE0-4ABDF6DDA7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да је пацијент стабилан започиње се седење и устајањ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 вертикализацију у почетку користе се помагала, ходалиц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ко је на вештачкој вентилација такође се вертикализуј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сихичка потпора уз едукацију породиц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7D4-C8A6-417D-AFB5-09164807A0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уб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трнулост/умор/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убитак проприоцеп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н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ликације:контрактуре, атрофија мишића, смањена кардиореспираторна изрдж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ови процене: ФИМ, Оксфорд скала, ВАС  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029-1752-4CD9-91A8-58D64C59F5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Plexus  lumbal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24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Спинални коренови и нерви </a:t>
            </a:r>
            <a:r>
              <a:rPr b="0" lang="sr-Latn-CS" sz="2500" spc="-1" strike="noStrike">
                <a:solidFill>
                  <a:srgbClr val="40458c"/>
                </a:solidFill>
                <a:latin typeface="Tahoma"/>
              </a:rPr>
              <a:t>L1 - L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4  формирају сплет нерва који чине лумбални плексус или слабински сплет нерава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Клинички значајан периферни нерв ДЕ који потиче из плексуса лумбалиса је </a:t>
            </a:r>
            <a:r>
              <a:rPr b="0" lang="sr-Latn-CS" sz="2500" spc="-1" strike="noStrike" u="sng">
                <a:solidFill>
                  <a:srgbClr val="40458c"/>
                </a:solidFill>
                <a:uFillTx/>
                <a:latin typeface="Tahoma"/>
              </a:rPr>
              <a:t>n.femoralis</a:t>
            </a:r>
            <a:r>
              <a:rPr b="0" lang="sr-Latn-CS" sz="25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2B7-EDF5-4E07-A92F-7F646EFCFD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1" lang="vi-VN" sz="24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државање обима покрета, превенција контракту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асивне вежбе, активно-потпомогнуте и активне вежбе (највећи ризик ГХ, скочни зглоб, кол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зиционир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обилизација грудног коша, карлице, гла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. Примена ортоза у мировању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 превенције контрактура зглобови се позиционирају у функционалном положају (нагласак на стопалима и шака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8254-C861-4969-A8CA-FA42A09E77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зиционирањ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ржавање оптималне позиције делова тел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њање положаја током дана и ноћ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 у што усправнијем положају за постизање оптималног засићења кисеони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CB8-4CE2-4A4B-92B5-A3B33DBE73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- ктх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еедукација  покр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да је пацијент стабилан започиње се са седењем и устајањем. У почетку седи 15-20 мин. При чему је важно правилно позиционира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је минимална активна покретљивост користи се даска за верикализацију, или према функционалном статусу применити неко друго помагало за вертикализ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очетку дужина стајања може бити краћа од 5 мин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пходно је пратити виталне параметре код болесника (ТА,пулс, фреквенца дисањ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C3C-7C01-47EA-9ECB-86437D3D85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лектротерапија- ЕС, СГ, ТЕН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тх- према ММТ-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идрокинезитерап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8B43-74D8-408E-9503-713EB4C118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ДИЈАБЕТЕСНА СЕНЗОМОТОРНА ПОЛИНЕУРОПАТИЈ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бетесна неуропат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еуропат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болест ПНС од коренова кичмене мождине до слободних нервних завршетака периферних нер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је компликација дијабетеса и најучесталија болест периферних нерава у развијеним земљ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дносу на дистрибуцију захваћених нерава класификуј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симетрич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асимтрич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комбиноване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A895-DB66-4102-85D4-E69A46B8C3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Дистална симетрична предоминатно сензорна полинеуропат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37720" y="19051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ајчешћи облик, ради се о неуропатији дугих влакана, са предоминатно оштећеним аксоналним транспортом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чиње у прстима стопала сметњама сензибилитета, полако се шири навише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д достигне ниво колена, непријатне сензације трњења и бола се јављају и у шакам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F0B-3DF0-4989-9179-1E41645A8F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Дистална симетрична предоминатно сензорна полинеуропат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37720" y="19051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 одмаклој фази болести долази до развоја моторне симптоматологије – развоја хипотрофије и слабости дорзифлексора стопала, гасе се МТР (Ахилов), такође имамо и знаке аутономне неуропатиј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Губитак сензибилитета доприноси честом настанку улцера стопала или деструкције дисталних зглобова (Шаркотова артропатиј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367-705E-4EA3-B2BE-B62FA33D49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е манифестације дијабет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с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неуропатије обухватају сензорне, моторне и аутономне симпто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Мотор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слабљења мишића (пада стопала), неуравнотежености (настанка деформитет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Сензор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→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губитка осећаја (губитак протективног сензибилитета), губитак проприоцепције (лош баланс) склоност ка пад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Аутоном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→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губитка знојења (сува,  испуцала кожа, настанак улцера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CE3-8479-4B89-8413-FB90738999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Завршне гране лумбалног плекс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 n.iliohypogastric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n.ilioingvin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n.genitofemo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4. n.cutaneus femoris late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5. n.femo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6. n.obtura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A59-4A1B-4F06-BDF7-A54ADC8E24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83772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Моторна неуропатија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 → 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доводи до слабости мишића стопала, што даље води у  поремећај баланса између флексора и екстензора прстију стопал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Атрофија малих мишића је одговорна за настанак  метатарсофалангеалне флексије, која доводи до настанка деформитета стопала ( чекићаст прст, кан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џ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асти прсти, проминенција главице мататарзалне кости 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C40-66A6-4440-9285-D48F372CBA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62120" y="167652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Структурни деформитети су места абнормално великог притиска, и тај стални притисак може да резултира оштећењем ткив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У одсуству протективног сензибилитета на тим местима су често настају улцерације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6B5-3645-44CB-911D-21D6ABED67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нспе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мишићне снаге-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обима покрета- м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Фу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роцена бола (ВАС ск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6538-2B7E-446E-ADA8-CFA43CFBAC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мена физикалних процедура заузима значајно место у симптоматској терапији болне дијабетесне сензомоторне полинеуропат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ноге студије су показале значајан аналгетски ефекат примене ТЕНС терапије, импулсног магнетног поља, стабилне галванизације, кинезитерап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х : снижава инсулинемију и повећава биолошка ефикасност инсулина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лази до повећавања броја и сензитивности рецептора за инсулин (нарочито у мишићном ткив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493-F2EA-4BE5-9E02-3597E8F42C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Нивои препоруке за физикалну терапију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фармаколошки третман код дијабетесне неуропатије за редукцију бола и побољшање физичког функционисања и квалитета живота Америчке Академије за неурологију из 2011. сврстава  електростимулацију, електромагнето терапију, ласеротерапију ниског интензитета  у препоруке нивоа Б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иво доказа Б - д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ази из најмање једне, добро дизајниране експерименталне студије. Рандомизиране студије са високо лажно позитивним и/или негативним грешкама (ниска поузданост студиј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E08-8841-4154-8D70-E06725C909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152280" y="628020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Bril V, England J, Franklin GM, et al. </a:t>
            </a: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Evidence-based guideline: treatment of painful diabetic neuropathy: report of the American Academy of Neurology, the American Association of Neuromuscular and Electrodiagnostic Medicine, and the American Academy of Physical Medicine and Rehabilitation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i="1" lang="en-US" sz="1000" spc="-1" strike="noStrike">
                <a:solidFill>
                  <a:srgbClr val="40458c"/>
                </a:solidFill>
                <a:latin typeface="Tahoma"/>
              </a:rPr>
              <a:t>Neurology. 2011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АЕРОБНЕ ВЕЖБ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ајмање 3 дана/недељ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ајмање средњег интензитета(40-60% од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O² max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мање 150 мин/недељ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ве форме вежби које укључују велике групе мишића 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ге, кукове, груди, леђа, стомак, рамена и руке)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и доводе до убрзања срчане фреквен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степено повећање интензитета и/или об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95B5-34B6-4882-9F1A-0A35C59388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228600" y="6273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</a:rPr>
              <a:t>ACSM’s guidelines for exercise testing and prescription. 8th ed. American College of Sports Medicine; 2010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ТРЕНИНГ ИЗДРЖЉИВОСТ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мање 2 пута недељно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умереног до јаког интензитет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5-10 вежби које укључују главне груп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3 до 4 сета вежб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10 до 15 понављања по сету вежби, прогресивно повећање тежине за 8-10 понављањ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а оптерећењем или без оптерећењ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поро повећање интензитета, трајања и учестал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B29-1678-405D-B48E-667D94BF5A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АДЗИРАНИ ТРЕНИНГ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обезбеђује оптималну корис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мањује ризик од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ТРЕНИНГ ЕЛАСТИЧНОСТ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е би требало да замени аеробни тренинг или      трениг изржљив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већава обим покрета у зглобовим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истезањ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бољшање бала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BF5-21DD-44F6-8FA9-15E9CEB0F1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n.femoral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621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тиче из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1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коренова лумбалног плекс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ервише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m.quadr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sar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pectin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iliopso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ензитивне гране (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n.cutaneus femoris anterior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и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nervus saphenus)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ервишу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жу предње и унутрашње површине надколенице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жу унутрашње стране потколенице и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88A-FA85-4C88-ADF3-742B993F9E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7:56:00Z</dcterms:modified>
  <cp:revision>953</cp:revision>
  <dc:subject/>
  <dc:title>Rehabilitacija traumatoloških bolesnika</dc:title>
</cp:coreProperties>
</file>